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71FA-BD75-4F08-80BB-737227743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83DD-57A7-4348-831A-09D943335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604C-F2A3-435A-9707-BD37B8C9E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E2BD-C5D4-4706-8CBA-25D517AC4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AC47-2F99-4C1A-A5A7-3ADE31815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4365-CF9E-4113-8BDD-865101354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CAA4-6981-4CEC-9B94-1ADD36B11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D361-DABA-44AF-BE2E-DE88C6FA8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063D-1F5D-4A64-AB59-B35A1127D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6851-479F-4802-8640-9B7E17054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C60B-F908-4EF0-A1BD-652DAD071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5F97-FDE9-498C-A36D-32F45D2A3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D5AD84B-272E-4B4C-A6D9-4B84BF78A3FC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4E2060A-2BAF-4447-BA6D-CE3A92F2320D}" type="slidenum">
              <a:rPr b="0" lang="pt-BR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8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81D525B-4FF4-4962-AEDE-06E400DE3AF2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3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384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53D6BC0-1058-47FE-A924-3AA0547EEA51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5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426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87ACD80-60E8-48E8-BACF-18243388D960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7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468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DCDB3AB-FC56-455D-85D9-CB5192689919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510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6327BB3-0B23-4A9C-BDD4-AB7BE9228BFA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48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C301E32-FD58-42AF-B2F4-F7028E992213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90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07C73E7-83AC-4BA6-A75D-A2B3F94605E0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132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A403936-782D-4BB5-BDE8-772611FC799A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174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8F693E6-D373-4BCB-ADB2-ED1A98CA7A72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216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3998D4F-FF7F-454A-95AB-09009FD40414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258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34ADFCC-4ECD-4CCB-A379-B79ACE1B9B5F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300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9582C61-42CF-4892-9449-A8EE6587EEC9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342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previdencia.gov.br/a-previdencia/orgaos-colegiados/conselho-nacional-de-previdencia-social-cnps/" TargetMode="External"/><Relationship Id="rId2" Type="http://schemas.openxmlformats.org/officeDocument/2006/relationships/slideLayout" Target="../slideLayouts/slideLayout14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Text Box 1"/>
          <p:cNvSpPr/>
          <p:nvPr/>
        </p:nvSpPr>
        <p:spPr>
          <a:xfrm>
            <a:off x="1447920" y="4530600"/>
            <a:ext cx="63244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Rectangle 2"/>
          <p:cNvSpPr/>
          <p:nvPr/>
        </p:nvSpPr>
        <p:spPr>
          <a:xfrm>
            <a:off x="395280" y="98100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pt-BR" sz="2400" spc="-1" strike="noStrike">
                <a:solidFill>
                  <a:srgbClr val="008080"/>
                </a:solidFill>
                <a:latin typeface="Arial"/>
              </a:rPr>
              <a:t>MINISTÉRIO DA FAZEN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pt-BR" sz="2400" spc="-1" strike="noStrike">
                <a:solidFill>
                  <a:srgbClr val="008080"/>
                </a:solidFill>
                <a:latin typeface="Arial"/>
              </a:rPr>
              <a:t>Secretaria de Políticas de Previdência Social - SP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Text Box 3"/>
          <p:cNvSpPr/>
          <p:nvPr/>
        </p:nvSpPr>
        <p:spPr>
          <a:xfrm>
            <a:off x="755640" y="2349360"/>
            <a:ext cx="7775640" cy="25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pt-BR" sz="4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pt-BR" sz="4400" spc="-1" strike="noStrike">
                <a:solidFill>
                  <a:srgbClr val="000080"/>
                </a:solidFill>
                <a:latin typeface="Arial"/>
              </a:rPr>
              <a:t>Conselho Nacional de Previdência – CNP; e Conselho de Previdência Social - CP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Rectangle 4"/>
          <p:cNvSpPr/>
          <p:nvPr/>
        </p:nvSpPr>
        <p:spPr>
          <a:xfrm>
            <a:off x="755640" y="5587920"/>
            <a:ext cx="7543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pt-BR" sz="2800" spc="-1" strike="noStrike">
                <a:solidFill>
                  <a:srgbClr val="008080"/>
                </a:solidFill>
                <a:latin typeface="Arial"/>
              </a:rPr>
              <a:t>16 de Fevereiro de 201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2536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80"/>
                </a:solidFill>
                <a:latin typeface="Arial"/>
              </a:rPr>
              <a:t>GRANDES NÚMEROS DO INSS </a:t>
            </a:r>
            <a:br>
              <a:rPr sz="4400"/>
            </a:br>
            <a:r>
              <a:rPr b="1" lang="pt-BR" sz="2800" spc="-1" strike="noStrike">
                <a:solidFill>
                  <a:srgbClr val="000080"/>
                </a:solidFill>
                <a:latin typeface="Arial"/>
              </a:rPr>
              <a:t>(Posição em dezembro de 2016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9720" indent="-279720" algn="just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"/>
              <a:tabLst>
                <a:tab algn="l" pos="371520"/>
                <a:tab algn="l" pos="744480"/>
                <a:tab algn="l" pos="1119240"/>
                <a:tab algn="l" pos="1494000"/>
                <a:tab algn="l" pos="1868400"/>
                <a:tab algn="l" pos="2243160"/>
                <a:tab algn="l" pos="2617920"/>
                <a:tab algn="l" pos="2990880"/>
                <a:tab algn="l" pos="3365640"/>
                <a:tab algn="l" pos="3740040"/>
                <a:tab algn="l" pos="4114800"/>
                <a:tab algn="l" pos="4489560"/>
                <a:tab algn="l" pos="4863960"/>
                <a:tab algn="l" pos="5237280"/>
                <a:tab algn="l" pos="5611680"/>
                <a:tab algn="l" pos="5986440"/>
                <a:tab algn="l" pos="6361200"/>
                <a:tab algn="l" pos="6735600"/>
                <a:tab algn="l" pos="7110360"/>
                <a:tab algn="l" pos="7483320"/>
                <a:tab algn="l" pos="7834320"/>
                <a:tab algn="l" pos="8207280"/>
                <a:tab algn="l" pos="8580600"/>
                <a:tab algn="l" pos="8953560"/>
                <a:tab algn="l" pos="9326520"/>
                <a:tab algn="l" pos="9699480"/>
                <a:tab algn="l" pos="10072800"/>
                <a:tab algn="l" pos="10445760"/>
                <a:tab algn="l" pos="1081872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33,8 milhões de benefícios em manutenção (Benefícios do RGPS, Assistenciais e Benefícios Indenizatórios da União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9720" indent="-279720" algn="just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"/>
              <a:tabLst>
                <a:tab algn="l" pos="371520"/>
                <a:tab algn="l" pos="744480"/>
                <a:tab algn="l" pos="1119240"/>
                <a:tab algn="l" pos="1494000"/>
                <a:tab algn="l" pos="1868400"/>
                <a:tab algn="l" pos="2243160"/>
                <a:tab algn="l" pos="2617920"/>
                <a:tab algn="l" pos="2990880"/>
                <a:tab algn="l" pos="3365640"/>
                <a:tab algn="l" pos="3740040"/>
                <a:tab algn="l" pos="4114800"/>
                <a:tab algn="l" pos="4489560"/>
                <a:tab algn="l" pos="4863960"/>
                <a:tab algn="l" pos="5237280"/>
                <a:tab algn="l" pos="5611680"/>
                <a:tab algn="l" pos="5986440"/>
                <a:tab algn="l" pos="6361200"/>
                <a:tab algn="l" pos="6735600"/>
                <a:tab algn="l" pos="7110360"/>
                <a:tab algn="l" pos="7483320"/>
                <a:tab algn="l" pos="7834320"/>
                <a:tab algn="l" pos="8207280"/>
                <a:tab algn="l" pos="8580600"/>
                <a:tab algn="l" pos="8953560"/>
                <a:tab algn="l" pos="9326520"/>
                <a:tab algn="l" pos="9699480"/>
                <a:tab algn="l" pos="10072800"/>
                <a:tab algn="l" pos="10445760"/>
                <a:tab algn="l" pos="1081872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723,3 mil novos requerimentos, em média, por mês em 2016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9720" indent="-279720" algn="just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"/>
              <a:tabLst>
                <a:tab algn="l" pos="371520"/>
                <a:tab algn="l" pos="744480"/>
                <a:tab algn="l" pos="1119240"/>
                <a:tab algn="l" pos="1494000"/>
                <a:tab algn="l" pos="1868400"/>
                <a:tab algn="l" pos="2243160"/>
                <a:tab algn="l" pos="2617920"/>
                <a:tab algn="l" pos="2990880"/>
                <a:tab algn="l" pos="3365640"/>
                <a:tab algn="l" pos="3740040"/>
                <a:tab algn="l" pos="4114800"/>
                <a:tab algn="l" pos="4489560"/>
                <a:tab algn="l" pos="4863960"/>
                <a:tab algn="l" pos="5237280"/>
                <a:tab algn="l" pos="5611680"/>
                <a:tab algn="l" pos="5986440"/>
                <a:tab algn="l" pos="6361200"/>
                <a:tab algn="l" pos="6735600"/>
                <a:tab algn="l" pos="7110360"/>
                <a:tab algn="l" pos="7483320"/>
                <a:tab algn="l" pos="7834320"/>
                <a:tab algn="l" pos="8207280"/>
                <a:tab algn="l" pos="8580600"/>
                <a:tab algn="l" pos="8953560"/>
                <a:tab algn="l" pos="9326520"/>
                <a:tab algn="l" pos="9699480"/>
                <a:tab algn="l" pos="10072800"/>
                <a:tab algn="l" pos="10445760"/>
                <a:tab algn="l" pos="1081872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4,0 milhões de ligações recebidas nas centrais 135/mês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9720" indent="-279720" algn="just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"/>
              <a:tabLst>
                <a:tab algn="l" pos="371520"/>
                <a:tab algn="l" pos="744480"/>
                <a:tab algn="l" pos="1119240"/>
                <a:tab algn="l" pos="1494000"/>
                <a:tab algn="l" pos="1868400"/>
                <a:tab algn="l" pos="2243160"/>
                <a:tab algn="l" pos="2617920"/>
                <a:tab algn="l" pos="2990880"/>
                <a:tab algn="l" pos="3365640"/>
                <a:tab algn="l" pos="3740040"/>
                <a:tab algn="l" pos="4114800"/>
                <a:tab algn="l" pos="4489560"/>
                <a:tab algn="l" pos="4863960"/>
                <a:tab algn="l" pos="5237280"/>
                <a:tab algn="l" pos="5611680"/>
                <a:tab algn="l" pos="5986440"/>
                <a:tab algn="l" pos="6361200"/>
                <a:tab algn="l" pos="6735600"/>
                <a:tab algn="l" pos="7110360"/>
                <a:tab algn="l" pos="7483320"/>
                <a:tab algn="l" pos="7834320"/>
                <a:tab algn="l" pos="8207280"/>
                <a:tab algn="l" pos="8580600"/>
                <a:tab algn="l" pos="8953560"/>
                <a:tab algn="l" pos="9326520"/>
                <a:tab algn="l" pos="9699480"/>
                <a:tab algn="l" pos="10072800"/>
                <a:tab algn="l" pos="10445760"/>
                <a:tab algn="l" pos="1081872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693 mil perícias realizadas/mês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9720" indent="-279720" algn="just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"/>
              <a:tabLst>
                <a:tab algn="l" pos="371520"/>
                <a:tab algn="l" pos="744480"/>
                <a:tab algn="l" pos="1119240"/>
                <a:tab algn="l" pos="1494000"/>
                <a:tab algn="l" pos="1868400"/>
                <a:tab algn="l" pos="2243160"/>
                <a:tab algn="l" pos="2617920"/>
                <a:tab algn="l" pos="2990880"/>
                <a:tab algn="l" pos="3365640"/>
                <a:tab algn="l" pos="3740040"/>
                <a:tab algn="l" pos="4114800"/>
                <a:tab algn="l" pos="4489560"/>
                <a:tab algn="l" pos="4863960"/>
                <a:tab algn="l" pos="5237280"/>
                <a:tab algn="l" pos="5611680"/>
                <a:tab algn="l" pos="5986440"/>
                <a:tab algn="l" pos="6361200"/>
                <a:tab algn="l" pos="6735600"/>
                <a:tab algn="l" pos="7110360"/>
                <a:tab algn="l" pos="7483320"/>
                <a:tab algn="l" pos="7834320"/>
                <a:tab algn="l" pos="8207280"/>
                <a:tab algn="l" pos="8580600"/>
                <a:tab algn="l" pos="8953560"/>
                <a:tab algn="l" pos="9326520"/>
                <a:tab algn="l" pos="9699480"/>
                <a:tab algn="l" pos="10072800"/>
                <a:tab algn="l" pos="10445760"/>
                <a:tab algn="l" pos="1081872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3,2 milhões de atendimentos presenciais nas APS/mês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9720" indent="-279720" algn="just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"/>
              <a:tabLst>
                <a:tab algn="l" pos="371520"/>
                <a:tab algn="l" pos="744480"/>
                <a:tab algn="l" pos="1119240"/>
                <a:tab algn="l" pos="1494000"/>
                <a:tab algn="l" pos="1868400"/>
                <a:tab algn="l" pos="2243160"/>
                <a:tab algn="l" pos="2617920"/>
                <a:tab algn="l" pos="2990880"/>
                <a:tab algn="l" pos="3365640"/>
                <a:tab algn="l" pos="3740040"/>
                <a:tab algn="l" pos="4114800"/>
                <a:tab algn="l" pos="4489560"/>
                <a:tab algn="l" pos="4863960"/>
                <a:tab algn="l" pos="5237280"/>
                <a:tab algn="l" pos="5611680"/>
                <a:tab algn="l" pos="5986440"/>
                <a:tab algn="l" pos="6361200"/>
                <a:tab algn="l" pos="6735600"/>
                <a:tab algn="l" pos="7110360"/>
                <a:tab algn="l" pos="7483320"/>
                <a:tab algn="l" pos="7834320"/>
                <a:tab algn="l" pos="8207280"/>
                <a:tab algn="l" pos="8580600"/>
                <a:tab algn="l" pos="8953560"/>
                <a:tab algn="l" pos="9326520"/>
                <a:tab algn="l" pos="9699480"/>
                <a:tab algn="l" pos="10072800"/>
                <a:tab algn="l" pos="10445760"/>
                <a:tab algn="l" pos="1081872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36,3 mil servidores ativos (inclusive os cedidos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9720" indent="-279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371520"/>
                <a:tab algn="l" pos="744480"/>
                <a:tab algn="l" pos="1119240"/>
                <a:tab algn="l" pos="1494000"/>
                <a:tab algn="l" pos="1868400"/>
                <a:tab algn="l" pos="2243160"/>
                <a:tab algn="l" pos="2617920"/>
                <a:tab algn="l" pos="2990880"/>
                <a:tab algn="l" pos="3365640"/>
                <a:tab algn="l" pos="3740040"/>
                <a:tab algn="l" pos="4114800"/>
                <a:tab algn="l" pos="4489560"/>
                <a:tab algn="l" pos="4863960"/>
                <a:tab algn="l" pos="5237280"/>
                <a:tab algn="l" pos="5611680"/>
                <a:tab algn="l" pos="5986440"/>
                <a:tab algn="l" pos="6361200"/>
                <a:tab algn="l" pos="6735600"/>
                <a:tab algn="l" pos="7110360"/>
                <a:tab algn="l" pos="7483320"/>
                <a:tab algn="l" pos="7834320"/>
                <a:tab algn="l" pos="8207280"/>
                <a:tab algn="l" pos="8580600"/>
                <a:tab algn="l" pos="8953560"/>
                <a:tab algn="l" pos="9326520"/>
                <a:tab algn="l" pos="9699480"/>
                <a:tab algn="l" pos="10072800"/>
                <a:tab algn="l" pos="10445760"/>
                <a:tab algn="l" pos="108187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80"/>
                </a:solidFill>
                <a:latin typeface="Arial"/>
              </a:rPr>
              <a:t>REDE DE ATENDIMENTO DO INSS</a:t>
            </a:r>
            <a:br>
              <a:rPr sz="32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6" name="Picture 4" descr=""/>
          <p:cNvPicPr/>
          <p:nvPr/>
        </p:nvPicPr>
        <p:blipFill>
          <a:blip r:embed="rId1"/>
          <a:srcRect l="25018" t="19545" r="40728" b="37757"/>
          <a:stretch/>
        </p:blipFill>
        <p:spPr>
          <a:xfrm>
            <a:off x="1332000" y="2133720"/>
            <a:ext cx="2890800" cy="2025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77" name=""/>
          <p:cNvSpPr txBox="1"/>
          <p:nvPr/>
        </p:nvSpPr>
        <p:spPr>
          <a:xfrm>
            <a:off x="4648320" y="2060280"/>
            <a:ext cx="403848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04920" indent="2880">
              <a:lnSpc>
                <a:spcPct val="100000"/>
              </a:lnSpc>
              <a:buClr>
                <a:srgbClr val="629dd1"/>
              </a:buClr>
              <a:buSzPct val="105000"/>
              <a:buFont typeface="Arial"/>
              <a:buChar char="–"/>
              <a:tabLst>
                <a:tab algn="l" pos="606600"/>
                <a:tab algn="l" pos="909720"/>
                <a:tab algn="l" pos="1212840"/>
                <a:tab algn="l" pos="1515960"/>
                <a:tab algn="l" pos="1819440"/>
                <a:tab algn="l" pos="2122560"/>
                <a:tab algn="l" pos="2425680"/>
                <a:tab algn="l" pos="2728800"/>
                <a:tab algn="l" pos="3032280"/>
                <a:tab algn="l" pos="3335400"/>
                <a:tab algn="l" pos="3638520"/>
                <a:tab algn="l" pos="3941640"/>
                <a:tab algn="l" pos="4245120"/>
                <a:tab algn="l" pos="4548240"/>
                <a:tab algn="l" pos="4851360"/>
                <a:tab algn="l" pos="5154480"/>
                <a:tab algn="l" pos="5457960"/>
                <a:tab algn="l" pos="5761080"/>
                <a:tab algn="l" pos="6064200"/>
                <a:tab algn="l" pos="6367320"/>
              </a:tabLst>
            </a:pPr>
            <a:r>
              <a:rPr b="1" lang="pt-BR" sz="1600" spc="-1" strike="noStrike">
                <a:solidFill>
                  <a:srgbClr val="002060"/>
                </a:solidFill>
                <a:latin typeface="Arial"/>
                <a:ea typeface="Arial"/>
              </a:rPr>
              <a:t>Presente em </a:t>
            </a:r>
            <a:r>
              <a:rPr b="1" lang="pt-BR" sz="1600" spc="-1" strike="noStrike">
                <a:solidFill>
                  <a:srgbClr val="006600"/>
                </a:solidFill>
                <a:latin typeface="Arial"/>
                <a:ea typeface="Arial"/>
              </a:rPr>
              <a:t>1.605</a:t>
            </a:r>
            <a:r>
              <a:rPr b="1" lang="pt-BR" sz="1600" spc="-1" strike="noStrike">
                <a:solidFill>
                  <a:srgbClr val="002060"/>
                </a:solidFill>
                <a:latin typeface="Arial"/>
                <a:ea typeface="Arial"/>
              </a:rPr>
              <a:t> Municípios (APS Fixa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04920" indent="2880">
              <a:lnSpc>
                <a:spcPct val="100000"/>
              </a:lnSpc>
              <a:buClr>
                <a:srgbClr val="629dd1"/>
              </a:buClr>
              <a:buSzPct val="105000"/>
              <a:buFont typeface="Arial"/>
              <a:buChar char="–"/>
              <a:tabLst>
                <a:tab algn="l" pos="606600"/>
                <a:tab algn="l" pos="909720"/>
                <a:tab algn="l" pos="1212840"/>
                <a:tab algn="l" pos="1515960"/>
                <a:tab algn="l" pos="1819440"/>
                <a:tab algn="l" pos="2122560"/>
                <a:tab algn="l" pos="2425680"/>
                <a:tab algn="l" pos="2728800"/>
                <a:tab algn="l" pos="3032280"/>
                <a:tab algn="l" pos="3335400"/>
                <a:tab algn="l" pos="3638520"/>
                <a:tab algn="l" pos="3941640"/>
                <a:tab algn="l" pos="4245120"/>
                <a:tab algn="l" pos="4548240"/>
                <a:tab algn="l" pos="4851360"/>
                <a:tab algn="l" pos="5154480"/>
                <a:tab algn="l" pos="5457960"/>
                <a:tab algn="l" pos="5761080"/>
                <a:tab algn="l" pos="6064200"/>
                <a:tab algn="l" pos="63673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04920" indent="2880">
              <a:lnSpc>
                <a:spcPct val="100000"/>
              </a:lnSpc>
              <a:buClr>
                <a:srgbClr val="629dd1"/>
              </a:buClr>
              <a:buSzPct val="105000"/>
              <a:buFont typeface="Arial"/>
              <a:buChar char="•"/>
              <a:tabLst>
                <a:tab algn="l" pos="606600"/>
                <a:tab algn="l" pos="909720"/>
                <a:tab algn="l" pos="1212840"/>
                <a:tab algn="l" pos="1515960"/>
                <a:tab algn="l" pos="1819440"/>
                <a:tab algn="l" pos="2122560"/>
                <a:tab algn="l" pos="2425680"/>
                <a:tab algn="l" pos="2728800"/>
                <a:tab algn="l" pos="3032280"/>
                <a:tab algn="l" pos="3335400"/>
                <a:tab algn="l" pos="3638520"/>
                <a:tab algn="l" pos="3941640"/>
                <a:tab algn="l" pos="4245120"/>
                <a:tab algn="l" pos="4548240"/>
                <a:tab algn="l" pos="4851360"/>
                <a:tab algn="l" pos="5154480"/>
                <a:tab algn="l" pos="5457960"/>
                <a:tab algn="l" pos="5761080"/>
                <a:tab algn="l" pos="6064200"/>
                <a:tab algn="l" pos="6367320"/>
              </a:tabLst>
            </a:pPr>
            <a:r>
              <a:rPr b="1" lang="pt-BR" sz="1600" spc="-1" strike="noStrike">
                <a:solidFill>
                  <a:srgbClr val="006600"/>
                </a:solidFill>
                <a:latin typeface="Arial"/>
                <a:ea typeface="Arial"/>
              </a:rPr>
              <a:t>1.504 </a:t>
            </a:r>
            <a:r>
              <a:rPr b="1" lang="pt-BR" sz="1600" spc="-1" strike="noStrike">
                <a:solidFill>
                  <a:srgbClr val="002060"/>
                </a:solidFill>
                <a:latin typeface="Arial"/>
                <a:ea typeface="Arial"/>
              </a:rPr>
              <a:t>Agências Convencionais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04920" indent="2880">
              <a:lnSpc>
                <a:spcPct val="100000"/>
              </a:lnSpc>
              <a:buClr>
                <a:srgbClr val="629dd1"/>
              </a:buClr>
              <a:buSzPct val="105000"/>
              <a:buFont typeface="Arial"/>
              <a:buChar char="•"/>
              <a:tabLst>
                <a:tab algn="l" pos="606600"/>
                <a:tab algn="l" pos="909720"/>
                <a:tab algn="l" pos="1212840"/>
                <a:tab algn="l" pos="1515960"/>
                <a:tab algn="l" pos="1819440"/>
                <a:tab algn="l" pos="2122560"/>
                <a:tab algn="l" pos="2425680"/>
                <a:tab algn="l" pos="2728800"/>
                <a:tab algn="l" pos="3032280"/>
                <a:tab algn="l" pos="3335400"/>
                <a:tab algn="l" pos="3638520"/>
                <a:tab algn="l" pos="3941640"/>
                <a:tab algn="l" pos="4245120"/>
                <a:tab algn="l" pos="4548240"/>
                <a:tab algn="l" pos="4851360"/>
                <a:tab algn="l" pos="5154480"/>
                <a:tab algn="l" pos="5457960"/>
                <a:tab algn="l" pos="5761080"/>
                <a:tab algn="l" pos="6064200"/>
                <a:tab algn="l" pos="6367320"/>
              </a:tabLst>
            </a:pPr>
            <a:r>
              <a:rPr b="1" lang="pt-BR" sz="1600" spc="-1" strike="noStrike">
                <a:solidFill>
                  <a:srgbClr val="006600"/>
                </a:solidFill>
                <a:latin typeface="Arial"/>
                <a:ea typeface="Arial"/>
              </a:rPr>
              <a:t>4</a:t>
            </a:r>
            <a:r>
              <a:rPr b="1" lang="pt-BR" sz="1600" spc="-1" strike="noStrike">
                <a:solidFill>
                  <a:srgbClr val="002060"/>
                </a:solidFill>
                <a:latin typeface="Arial"/>
                <a:ea typeface="Arial"/>
              </a:rPr>
              <a:t> PREVBarcos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04920" indent="2880">
              <a:lnSpc>
                <a:spcPct val="100000"/>
              </a:lnSpc>
              <a:buClr>
                <a:srgbClr val="629dd1"/>
              </a:buClr>
              <a:buSzPct val="105000"/>
              <a:buFont typeface="Arial"/>
              <a:buChar char="•"/>
              <a:tabLst>
                <a:tab algn="l" pos="606600"/>
                <a:tab algn="l" pos="909720"/>
                <a:tab algn="l" pos="1212840"/>
                <a:tab algn="l" pos="1515960"/>
                <a:tab algn="l" pos="1819440"/>
                <a:tab algn="l" pos="2122560"/>
                <a:tab algn="l" pos="2425680"/>
                <a:tab algn="l" pos="2728800"/>
                <a:tab algn="l" pos="3032280"/>
                <a:tab algn="l" pos="3335400"/>
                <a:tab algn="l" pos="3638520"/>
                <a:tab algn="l" pos="3941640"/>
                <a:tab algn="l" pos="4245120"/>
                <a:tab algn="l" pos="4548240"/>
                <a:tab algn="l" pos="4851360"/>
                <a:tab algn="l" pos="5154480"/>
                <a:tab algn="l" pos="5457960"/>
                <a:tab algn="l" pos="5761080"/>
                <a:tab algn="l" pos="6064200"/>
                <a:tab algn="l" pos="6367320"/>
              </a:tabLst>
            </a:pPr>
            <a:r>
              <a:rPr b="1" lang="pt-BR" sz="1600" spc="-1" strike="noStrike">
                <a:solidFill>
                  <a:srgbClr val="006600"/>
                </a:solidFill>
                <a:latin typeface="Arial"/>
                <a:ea typeface="Arial"/>
              </a:rPr>
              <a:t>7</a:t>
            </a:r>
            <a:r>
              <a:rPr b="1" lang="pt-BR" sz="1600" spc="-1" strike="noStrike">
                <a:solidFill>
                  <a:srgbClr val="002060"/>
                </a:solidFill>
                <a:latin typeface="Arial"/>
                <a:ea typeface="Arial"/>
              </a:rPr>
              <a:t> Agências de Acordos Internacionai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04920" indent="2880">
              <a:lnSpc>
                <a:spcPct val="100000"/>
              </a:lnSpc>
              <a:buClr>
                <a:srgbClr val="629dd1"/>
              </a:buClr>
              <a:buSzPct val="105000"/>
              <a:buFont typeface="Arial"/>
              <a:buChar char="•"/>
              <a:tabLst>
                <a:tab algn="l" pos="606600"/>
                <a:tab algn="l" pos="909720"/>
                <a:tab algn="l" pos="1212840"/>
                <a:tab algn="l" pos="1515960"/>
                <a:tab algn="l" pos="1819440"/>
                <a:tab algn="l" pos="2122560"/>
                <a:tab algn="l" pos="2425680"/>
                <a:tab algn="l" pos="2728800"/>
                <a:tab algn="l" pos="3032280"/>
                <a:tab algn="l" pos="3335400"/>
                <a:tab algn="l" pos="3638520"/>
                <a:tab algn="l" pos="3941640"/>
                <a:tab algn="l" pos="4245120"/>
                <a:tab algn="l" pos="4548240"/>
                <a:tab algn="l" pos="4851360"/>
                <a:tab algn="l" pos="5154480"/>
                <a:tab algn="l" pos="5457960"/>
                <a:tab algn="l" pos="5761080"/>
                <a:tab algn="l" pos="6064200"/>
                <a:tab algn="l" pos="6367320"/>
              </a:tabLst>
            </a:pPr>
            <a:r>
              <a:rPr b="1" lang="pt-BR" sz="1600" spc="-1" strike="noStrike">
                <a:solidFill>
                  <a:srgbClr val="006600"/>
                </a:solidFill>
                <a:latin typeface="Arial"/>
                <a:ea typeface="Arial"/>
              </a:rPr>
              <a:t>3 </a:t>
            </a:r>
            <a:r>
              <a:rPr b="1" lang="pt-BR" sz="1600" spc="-1" strike="noStrike">
                <a:solidFill>
                  <a:srgbClr val="002060"/>
                </a:solidFill>
                <a:latin typeface="Arial"/>
                <a:ea typeface="Arial"/>
              </a:rPr>
              <a:t>Agências de Teleatendimento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04920" indent="2880">
              <a:lnSpc>
                <a:spcPct val="100000"/>
              </a:lnSpc>
              <a:buClr>
                <a:srgbClr val="629dd1"/>
              </a:buClr>
              <a:buSzPct val="105000"/>
              <a:buFont typeface="Arial"/>
              <a:buChar char="•"/>
              <a:tabLst>
                <a:tab algn="l" pos="606600"/>
                <a:tab algn="l" pos="909720"/>
                <a:tab algn="l" pos="1212840"/>
                <a:tab algn="l" pos="1515960"/>
                <a:tab algn="l" pos="1819440"/>
                <a:tab algn="l" pos="2122560"/>
                <a:tab algn="l" pos="2425680"/>
                <a:tab algn="l" pos="2728800"/>
                <a:tab algn="l" pos="3032280"/>
                <a:tab algn="l" pos="3335400"/>
                <a:tab algn="l" pos="3638520"/>
                <a:tab algn="l" pos="3941640"/>
                <a:tab algn="l" pos="4245120"/>
                <a:tab algn="l" pos="4548240"/>
                <a:tab algn="l" pos="4851360"/>
                <a:tab algn="l" pos="5154480"/>
                <a:tab algn="l" pos="5457960"/>
                <a:tab algn="l" pos="5761080"/>
                <a:tab algn="l" pos="6064200"/>
                <a:tab algn="l" pos="6367320"/>
              </a:tabLst>
            </a:pPr>
            <a:r>
              <a:rPr b="1" lang="pt-BR" sz="1600" spc="-1" strike="noStrike">
                <a:solidFill>
                  <a:srgbClr val="006600"/>
                </a:solidFill>
                <a:latin typeface="Arial"/>
                <a:ea typeface="Arial"/>
              </a:rPr>
              <a:t>86</a:t>
            </a:r>
            <a:r>
              <a:rPr b="1" lang="pt-BR" sz="1600" spc="-1" strike="noStrike">
                <a:solidFill>
                  <a:srgbClr val="002060"/>
                </a:solidFill>
                <a:latin typeface="Arial"/>
                <a:ea typeface="Arial"/>
              </a:rPr>
              <a:t> Agências de Atendimento de Demandas Judiciais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04920" indent="2880">
              <a:lnSpc>
                <a:spcPct val="100000"/>
              </a:lnSpc>
              <a:buClr>
                <a:srgbClr val="629dd1"/>
              </a:buClr>
              <a:buSzPct val="105000"/>
              <a:buFont typeface="Arial"/>
              <a:buChar char="•"/>
              <a:tabLst>
                <a:tab algn="l" pos="606600"/>
                <a:tab algn="l" pos="909720"/>
                <a:tab algn="l" pos="1212840"/>
                <a:tab algn="l" pos="1515960"/>
                <a:tab algn="l" pos="1819440"/>
                <a:tab algn="l" pos="2122560"/>
                <a:tab algn="l" pos="2425680"/>
                <a:tab algn="l" pos="2728800"/>
                <a:tab algn="l" pos="3032280"/>
                <a:tab algn="l" pos="3335400"/>
                <a:tab algn="l" pos="3638520"/>
                <a:tab algn="l" pos="3941640"/>
                <a:tab algn="l" pos="4245120"/>
                <a:tab algn="l" pos="4548240"/>
                <a:tab algn="l" pos="4851360"/>
                <a:tab algn="l" pos="5154480"/>
                <a:tab algn="l" pos="5457960"/>
                <a:tab algn="l" pos="5761080"/>
                <a:tab algn="l" pos="6064200"/>
                <a:tab algn="l" pos="6367320"/>
              </a:tabLst>
            </a:pPr>
            <a:r>
              <a:rPr b="1" lang="pt-BR" sz="1600" spc="-1" strike="noStrike">
                <a:solidFill>
                  <a:srgbClr val="006600"/>
                </a:solidFill>
                <a:latin typeface="Arial"/>
                <a:ea typeface="Arial"/>
              </a:rPr>
              <a:t>90</a:t>
            </a:r>
            <a:r>
              <a:rPr b="1" lang="pt-BR" sz="1600" spc="-1" strike="noStrike">
                <a:solidFill>
                  <a:srgbClr val="002060"/>
                </a:solidFill>
                <a:latin typeface="Arial"/>
                <a:ea typeface="Arial"/>
              </a:rPr>
              <a:t> PREVCidades (convênios com prefeitura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04920" indent="2880">
              <a:lnSpc>
                <a:spcPct val="100000"/>
              </a:lnSpc>
              <a:buClr>
                <a:srgbClr val="629dd1"/>
              </a:buClr>
              <a:buSzPct val="105000"/>
              <a:buFont typeface="Arial"/>
              <a:buChar char="•"/>
              <a:tabLst>
                <a:tab algn="l" pos="606600"/>
                <a:tab algn="l" pos="909720"/>
                <a:tab algn="l" pos="1212840"/>
                <a:tab algn="l" pos="1515960"/>
                <a:tab algn="l" pos="1819440"/>
                <a:tab algn="l" pos="2122560"/>
                <a:tab algn="l" pos="2425680"/>
                <a:tab algn="l" pos="2728800"/>
                <a:tab algn="l" pos="3032280"/>
                <a:tab algn="l" pos="3335400"/>
                <a:tab algn="l" pos="3638520"/>
                <a:tab algn="l" pos="3941640"/>
                <a:tab algn="l" pos="4245120"/>
                <a:tab algn="l" pos="4548240"/>
                <a:tab algn="l" pos="4851360"/>
                <a:tab algn="l" pos="5154480"/>
                <a:tab algn="l" pos="5457960"/>
                <a:tab algn="l" pos="5761080"/>
                <a:tab algn="l" pos="6064200"/>
                <a:tab algn="l" pos="63673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8" name="Picture 1" descr="C:\Users\CIBELE~1.CAS\AppData\Local\Temp\PREVBarco.jpg"/>
          <p:cNvPicPr/>
          <p:nvPr/>
        </p:nvPicPr>
        <p:blipFill>
          <a:blip r:embed="rId2"/>
          <a:stretch/>
        </p:blipFill>
        <p:spPr>
          <a:xfrm>
            <a:off x="1355760" y="4221000"/>
            <a:ext cx="2811600" cy="1872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579" name="Retângulo 8"/>
          <p:cNvGrpSpPr/>
          <p:nvPr/>
        </p:nvGrpSpPr>
        <p:grpSpPr>
          <a:xfrm>
            <a:off x="5273640" y="5211720"/>
            <a:ext cx="3297240" cy="573120"/>
            <a:chOff x="5273640" y="5211720"/>
            <a:chExt cx="3297240" cy="573120"/>
          </a:xfrm>
        </p:grpSpPr>
        <p:pic>
          <p:nvPicPr>
            <p:cNvPr id="580" name="Retângulo 8" descr=""/>
            <p:cNvPicPr/>
            <p:nvPr/>
          </p:nvPicPr>
          <p:blipFill>
            <a:blip r:embed="rId3"/>
            <a:stretch/>
          </p:blipFill>
          <p:spPr>
            <a:xfrm>
              <a:off x="5273640" y="5211720"/>
              <a:ext cx="329724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"/>
            <p:cNvSpPr/>
            <p:nvPr/>
          </p:nvSpPr>
          <p:spPr>
            <a:xfrm>
              <a:off x="5292720" y="5232240"/>
              <a:ext cx="32558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560" rIns="61560" tIns="30960" bIns="30960" anchor="t">
              <a:noAutofit/>
            </a:bodyPr>
            <a:p>
              <a:pPr algn="ctr">
                <a:tabLst>
                  <a:tab algn="l" pos="0"/>
                  <a:tab algn="l" pos="303120"/>
                  <a:tab algn="l" pos="606600"/>
                  <a:tab algn="l" pos="909720"/>
                  <a:tab algn="l" pos="1212840"/>
                  <a:tab algn="l" pos="1515960"/>
                  <a:tab algn="l" pos="1819440"/>
                  <a:tab algn="l" pos="2122560"/>
                  <a:tab algn="l" pos="2425680"/>
                  <a:tab algn="l" pos="2728800"/>
                  <a:tab algn="l" pos="3032280"/>
                  <a:tab algn="l" pos="3335400"/>
                  <a:tab algn="l" pos="3638520"/>
                  <a:tab algn="l" pos="3941640"/>
                  <a:tab algn="l" pos="4245120"/>
                  <a:tab algn="l" pos="4548240"/>
                  <a:tab algn="l" pos="4851360"/>
                  <a:tab algn="l" pos="5154480"/>
                  <a:tab algn="l" pos="5457960"/>
                  <a:tab algn="l" pos="5761080"/>
                  <a:tab algn="l" pos="6064200"/>
                </a:tabLst>
              </a:pPr>
              <a:r>
                <a:rPr b="1" lang="pt-BR" sz="1600" spc="-1" strike="noStrike">
                  <a:solidFill>
                    <a:srgbClr val="404040"/>
                  </a:solidFill>
                  <a:latin typeface="Arial"/>
                </a:rPr>
                <a:t>1.694 unidades de atendimento em funcionament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80"/>
                </a:solidFill>
                <a:latin typeface="Arial"/>
              </a:rPr>
              <a:t>PRINCIPAIS TEMAS EM 201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7200" y="2204640"/>
            <a:ext cx="85075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7040" indent="-257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terações da Legislação Previdenciári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ator Acidentário de Prevenção – FA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-Soci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visão dos Benefícios por Incapacidad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bertura Previdenciária – PNAD/2014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redito Consignad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mpacto de Acidente de Trânsito na Previdência So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Tabela 1" descr=""/>
          <p:cNvPicPr/>
          <p:nvPr/>
        </p:nvPicPr>
        <p:blipFill>
          <a:blip r:embed="rId1"/>
          <a:stretch/>
        </p:blipFill>
        <p:spPr>
          <a:xfrm>
            <a:off x="324000" y="804960"/>
            <a:ext cx="8429400" cy="61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pt-BR" sz="4400" spc="-1" strike="noStrike">
                <a:solidFill>
                  <a:srgbClr val="000080"/>
                </a:solidFill>
                <a:latin typeface="Arial"/>
              </a:rPr>
              <a:t>CONSELHO DE PREVIDÊNCIA SOCIAL - C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ítulo 1"/>
          <p:cNvSpPr/>
          <p:nvPr/>
        </p:nvSpPr>
        <p:spPr>
          <a:xfrm>
            <a:off x="519120" y="3429000"/>
            <a:ext cx="82296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400"/>
            </a:br>
            <a:r>
              <a:rPr b="1" lang="pt-BR" sz="4400" spc="-1" strike="noStrike" baseline="-25000">
                <a:solidFill>
                  <a:srgbClr val="000080"/>
                </a:solidFill>
                <a:latin typeface="Arial"/>
              </a:rPr>
              <a:t>Previsto para funcionar nas sedes das Gerências-Executivas do IN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ext Box 2"/>
          <p:cNvSpPr/>
          <p:nvPr/>
        </p:nvSpPr>
        <p:spPr>
          <a:xfrm>
            <a:off x="1447920" y="4530600"/>
            <a:ext cx="63244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Rectangle 4"/>
          <p:cNvSpPr/>
          <p:nvPr/>
        </p:nvSpPr>
        <p:spPr>
          <a:xfrm>
            <a:off x="0" y="836640"/>
            <a:ext cx="8893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Arial"/>
              </a:rPr>
              <a:t>O que são os Conselhos de Previdência Social - CP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Text Box 5"/>
          <p:cNvSpPr/>
          <p:nvPr/>
        </p:nvSpPr>
        <p:spPr>
          <a:xfrm>
            <a:off x="250920" y="1413000"/>
            <a:ext cx="856908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2003, por força do Decreto nº 4.874, foram criados os CPS’s, unidades descentralizadas do Conselho Nacional de Previdência – CNP, vinculadas ou funcionando junto às Gerências-Executivas do INS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Text Box 5"/>
          <p:cNvSpPr/>
          <p:nvPr/>
        </p:nvSpPr>
        <p:spPr>
          <a:xfrm>
            <a:off x="325440" y="3213000"/>
            <a:ext cx="8569440" cy="1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buClr>
                <a:srgbClr val="000000"/>
              </a:buClr>
              <a:buFont typeface="Wingdings" charset="2"/>
              <a:buChar char="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ão instâncias colegiadas e têm caráter consultivo e de assessoramento, podendo encaminhar propostas para serem deliberadas no âmbito do CN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Text Box 5"/>
          <p:cNvSpPr/>
          <p:nvPr/>
        </p:nvSpPr>
        <p:spPr>
          <a:xfrm>
            <a:off x="336600" y="4530600"/>
            <a:ext cx="856944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buClr>
                <a:srgbClr val="000000"/>
              </a:buClr>
              <a:buFont typeface="Wingdings" charset="2"/>
              <a:buChar char="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CPS’s buscam ampliar o diálogo entre a Gerência-Executiva do INSS e a sociedade, permitindo que as necessidades específicas de cada localidade no que diz respeito ao debate de políticas públicas e de legislação previdenciárias sejam atendidas de modo mais eficie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Text Box 6"/>
          <p:cNvSpPr/>
          <p:nvPr/>
        </p:nvSpPr>
        <p:spPr>
          <a:xfrm>
            <a:off x="108000" y="4797360"/>
            <a:ext cx="885672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s CPS são compostos por 10 conselheiros, sendo 2 representantes dos trabalhadores, 2 dos empregadores, 2 dos aposentados e pensionistas e 4 do Governo, os quais se reúnem ao menos uma vez por bimestr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Retângulo de cantos arredondados 2"/>
          <p:cNvSpPr/>
          <p:nvPr/>
        </p:nvSpPr>
        <p:spPr>
          <a:xfrm>
            <a:off x="3635280" y="1273320"/>
            <a:ext cx="133056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Retângulo de cantos arredondados 8"/>
          <p:cNvSpPr/>
          <p:nvPr/>
        </p:nvSpPr>
        <p:spPr>
          <a:xfrm>
            <a:off x="1476360" y="2238480"/>
            <a:ext cx="2519280" cy="6858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GOVER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(4 representant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Retângulo de cantos arredondados 10"/>
          <p:cNvSpPr/>
          <p:nvPr/>
        </p:nvSpPr>
        <p:spPr>
          <a:xfrm>
            <a:off x="4524480" y="2238480"/>
            <a:ext cx="2519280" cy="6858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SOCIEDA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(6 representant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Retângulo de cantos arredondados 11"/>
          <p:cNvSpPr/>
          <p:nvPr/>
        </p:nvSpPr>
        <p:spPr>
          <a:xfrm>
            <a:off x="539640" y="3429000"/>
            <a:ext cx="3240360" cy="57636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APOSENTADOS/PENSIONIST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(2 representant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Retângulo de cantos arredondados 12"/>
          <p:cNvSpPr/>
          <p:nvPr/>
        </p:nvSpPr>
        <p:spPr>
          <a:xfrm>
            <a:off x="3924360" y="3429000"/>
            <a:ext cx="2448000" cy="57636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TRABALHADOR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(2 representant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Retângulo de cantos arredondados 13"/>
          <p:cNvSpPr/>
          <p:nvPr/>
        </p:nvSpPr>
        <p:spPr>
          <a:xfrm>
            <a:off x="6516720" y="3429000"/>
            <a:ext cx="2448000" cy="57636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EMPREGADOR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(2 representant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Conector reto 14"/>
          <p:cNvSpPr/>
          <p:nvPr/>
        </p:nvSpPr>
        <p:spPr>
          <a:xfrm>
            <a:off x="4300560" y="188280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Conector reto 16"/>
          <p:cNvSpPr/>
          <p:nvPr/>
        </p:nvSpPr>
        <p:spPr>
          <a:xfrm flipH="1">
            <a:off x="2734920" y="2060640"/>
            <a:ext cx="29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01" name="Conector de seta reta 19"/>
          <p:cNvCxnSpPr/>
          <p:nvPr/>
        </p:nvCxnSpPr>
        <p:spPr>
          <a:xfrm>
            <a:off x="5724000" y="2060640"/>
            <a:ext cx="1080" cy="17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2" name="Conector de seta reta 21"/>
          <p:cNvCxnSpPr>
            <a:endCxn id="594" idx="0"/>
          </p:cNvCxnSpPr>
          <p:nvPr/>
        </p:nvCxnSpPr>
        <p:spPr>
          <a:xfrm flipH="1">
            <a:off x="2734560" y="2060640"/>
            <a:ext cx="1080" cy="17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03" name="Conector reto 23"/>
          <p:cNvSpPr/>
          <p:nvPr/>
        </p:nvSpPr>
        <p:spPr>
          <a:xfrm>
            <a:off x="5651640" y="2924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Conector reto 25"/>
          <p:cNvSpPr/>
          <p:nvPr/>
        </p:nvSpPr>
        <p:spPr>
          <a:xfrm flipH="1">
            <a:off x="2484000" y="3213000"/>
            <a:ext cx="532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05" name="Conector de seta reta 27"/>
          <p:cNvCxnSpPr/>
          <p:nvPr/>
        </p:nvCxnSpPr>
        <p:spPr>
          <a:xfrm>
            <a:off x="2484000" y="321300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6" name="Conector de seta reta 30"/>
          <p:cNvCxnSpPr/>
          <p:nvPr/>
        </p:nvCxnSpPr>
        <p:spPr>
          <a:xfrm>
            <a:off x="7811640" y="321300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7" name="Conector de seta reta 4096"/>
          <p:cNvCxnSpPr>
            <a:endCxn id="597" idx="0"/>
          </p:cNvCxnSpPr>
          <p:nvPr/>
        </p:nvCxnSpPr>
        <p:spPr>
          <a:xfrm>
            <a:off x="5148000" y="321300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5"/>
          <p:cNvSpPr/>
          <p:nvPr/>
        </p:nvSpPr>
        <p:spPr>
          <a:xfrm>
            <a:off x="581040" y="1341360"/>
            <a:ext cx="7993080" cy="41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3600" spc="-1" strike="noStrike">
                <a:solidFill>
                  <a:srgbClr val="000080"/>
                </a:solidFill>
                <a:latin typeface="Arial"/>
              </a:rPr>
              <a:t>DIVULGAÇÃO DAS INFORMAÇÕES RELATIVAS AO CNP E AOS CPS’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4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64072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Picture 2" descr=""/>
          <p:cNvPicPr/>
          <p:nvPr/>
        </p:nvPicPr>
        <p:blipFill>
          <a:blip r:embed="rId1"/>
          <a:stretch/>
        </p:blipFill>
        <p:spPr>
          <a:xfrm>
            <a:off x="108000" y="981000"/>
            <a:ext cx="891072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tângulo 1"/>
          <p:cNvSpPr/>
          <p:nvPr/>
        </p:nvSpPr>
        <p:spPr>
          <a:xfrm>
            <a:off x="684360" y="1341360"/>
            <a:ext cx="77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80"/>
                </a:solidFill>
                <a:latin typeface="Arial"/>
              </a:rPr>
              <a:t>O CONSELHO NACIONAL DE PREVIDÊNC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Retângulo 2"/>
          <p:cNvSpPr/>
          <p:nvPr/>
        </p:nvSpPr>
        <p:spPr>
          <a:xfrm>
            <a:off x="557280" y="2585880"/>
            <a:ext cx="8064360" cy="29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Conselho Nacional de Previdência – CNP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é um órgão superior de deliberação colegiada, instituído pela Lei nº 8.213, de 24 de julho de 1991, e tem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o principal objetivo estabelecer o caráter democrático e descentralizado da administração, em cumprimento ao disposto no art. 194 da Constituição, com a redação dada pela Emenda Constitucional nº 20, que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econiza uma gestão quadripartit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com a participação d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Govern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dos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trabalhadores em atividad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dos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mpregadore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e dos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posentado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 txBox="1"/>
          <p:nvPr/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Arial"/>
                <a:ea typeface="Arial Unicode MS"/>
              </a:rPr>
              <a:t>MAIOR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2400" spc="-1" strike="noStrike">
                <a:solidFill>
                  <a:srgbClr val="000080"/>
                </a:solidFill>
                <a:latin typeface="Arial"/>
                <a:ea typeface="Arial Unicode MS"/>
              </a:rPr>
              <a:t>INFORMAÇÕES SOBRE O CNP E SOBRE OS CPS’s PODEM SER ENCONTRADAS NO SI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4d4d4d"/>
                </a:solidFill>
                <a:uFillTx/>
                <a:latin typeface="Arial"/>
                <a:ea typeface="Arial"/>
                <a:hlinkClick r:id="rId1"/>
              </a:rPr>
              <a:t>http://www.previdencia.gov.br/a-previdencia/orgaos-colegiados/conselho-nacional-de-previdencia-social-cnps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2" name=""/>
          <p:cNvGraphicFramePr/>
          <p:nvPr/>
        </p:nvGraphicFramePr>
        <p:xfrm>
          <a:off x="324000" y="1052640"/>
          <a:ext cx="8569080" cy="5400720"/>
        </p:xfrm>
        <a:graphic>
          <a:graphicData uri="http://schemas.openxmlformats.org/drawingml/2006/table">
            <a:tbl>
              <a:tblPr/>
              <a:tblGrid>
                <a:gridCol w="1325520"/>
                <a:gridCol w="595080"/>
                <a:gridCol w="433440"/>
                <a:gridCol w="409680"/>
                <a:gridCol w="409680"/>
                <a:gridCol w="409320"/>
                <a:gridCol w="409680"/>
                <a:gridCol w="409680"/>
                <a:gridCol w="409320"/>
                <a:gridCol w="409680"/>
                <a:gridCol w="409680"/>
                <a:gridCol w="409680"/>
                <a:gridCol w="409320"/>
                <a:gridCol w="409680"/>
                <a:gridCol w="409680"/>
                <a:gridCol w="409320"/>
                <a:gridCol w="890640"/>
              </a:tblGrid>
              <a:tr h="303120">
                <a:tc gridSpan="17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erintendência Regional Sudeste 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9760"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ência Executiv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alaçã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gridSpan="14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úmero de Reuniões por 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ltima Reuniã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41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açatuba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/09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0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araquara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/07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88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uru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/06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0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pinas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/10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uarulhos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/06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vereiro/20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0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diaí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/10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88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ília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tembr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0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asco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/02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ho/20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iracicaba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/10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lh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0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idente Prudente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/04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88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beirão Preto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t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0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to Andre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/06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tos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0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ão Bernardo do Campo/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/11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ho/20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88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ão João da Boa Vista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/08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/20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0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ão José do Rio Preto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h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ão José dos Campos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/02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032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ão Paulo/Lest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/04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rocaba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0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ubaté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/10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: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3" name=""/>
          <p:cNvGraphicFramePr/>
          <p:nvPr/>
        </p:nvGraphicFramePr>
        <p:xfrm>
          <a:off x="324000" y="1052640"/>
          <a:ext cx="8507160" cy="5545080"/>
        </p:xfrm>
        <a:graphic>
          <a:graphicData uri="http://schemas.openxmlformats.org/drawingml/2006/table">
            <a:tbl>
              <a:tblPr/>
              <a:tblGrid>
                <a:gridCol w="1315800"/>
                <a:gridCol w="590760"/>
                <a:gridCol w="431640"/>
                <a:gridCol w="406440"/>
                <a:gridCol w="406440"/>
                <a:gridCol w="406440"/>
                <a:gridCol w="406440"/>
                <a:gridCol w="406440"/>
                <a:gridCol w="406080"/>
                <a:gridCol w="406440"/>
                <a:gridCol w="406440"/>
                <a:gridCol w="406440"/>
                <a:gridCol w="406440"/>
                <a:gridCol w="406440"/>
                <a:gridCol w="407880"/>
                <a:gridCol w="406440"/>
                <a:gridCol w="884160"/>
              </a:tblGrid>
              <a:tr h="301320">
                <a:tc gridSpan="17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erintendência Regional Sudeste I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9240"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ência Executiv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 Instalaçã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gridSpan="14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úmero de Reuniões por 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ltima Reuniã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7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rbacena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/04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88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lo Horizonte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/02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74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pos dos Goytacazes/RJ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agem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3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lh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74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mantina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inópolis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/03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88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que de Caxias / RJ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/03/0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lho/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74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vernador Valadares/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/06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iz de Fora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6/12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74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ntes Claros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88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terói / RJ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/06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vereir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ro Preto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/04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vereir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74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rópolis / RJ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ços de Caldas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/04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tembro/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88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o de Janeiro / RJ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verei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74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ófilo Otoni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06/1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beraba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/04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74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berlândia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/03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ginha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6/04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88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tória / E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/09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74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lta Redonda / RJ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ão Instalado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ão Instalado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: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4" name=""/>
          <p:cNvGraphicFramePr/>
          <p:nvPr/>
        </p:nvGraphicFramePr>
        <p:xfrm>
          <a:off x="395280" y="981000"/>
          <a:ext cx="8589960" cy="5327640"/>
        </p:xfrm>
        <a:graphic>
          <a:graphicData uri="http://schemas.openxmlformats.org/drawingml/2006/table">
            <a:tbl>
              <a:tblPr/>
              <a:tblGrid>
                <a:gridCol w="1328760"/>
                <a:gridCol w="596880"/>
                <a:gridCol w="434880"/>
                <a:gridCol w="409680"/>
                <a:gridCol w="411120"/>
                <a:gridCol w="411120"/>
                <a:gridCol w="409680"/>
                <a:gridCol w="411120"/>
                <a:gridCol w="409680"/>
                <a:gridCol w="411120"/>
                <a:gridCol w="409680"/>
                <a:gridCol w="411120"/>
                <a:gridCol w="411120"/>
                <a:gridCol w="409680"/>
                <a:gridCol w="411120"/>
                <a:gridCol w="409320"/>
                <a:gridCol w="893880"/>
              </a:tblGrid>
              <a:tr h="338040">
                <a:tc gridSpan="17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erintendência Regional Su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7160"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ência Executiv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 Instalaçã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gridSpan="14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úmero de Reuniões por 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ltima Reuniã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68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lumenau / SC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temb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71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as / R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verei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5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cavel / PR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/08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71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xias do Sul / R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/08/0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ubr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68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pecó / SC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/06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ubr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71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iciúma / SC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/06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tembr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68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ritiba / PR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71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lorianópolis / SC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/06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tembr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71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juí / R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/10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h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5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inville / SC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68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ndrina / PR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/06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/20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71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ingá / PR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/08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verei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71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o Hamburgo / R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/08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68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so Fundo / R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/12/0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71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lotas / R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/11/0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eir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68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nta Grossa / PR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/08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5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rto Alegre / R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/08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71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ta Maria / R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/10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t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71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uguaiana / R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6/11/0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ubr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68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: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5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5" name=""/>
          <p:cNvGraphicFramePr/>
          <p:nvPr/>
        </p:nvGraphicFramePr>
        <p:xfrm>
          <a:off x="395280" y="981000"/>
          <a:ext cx="8507520" cy="5329440"/>
        </p:xfrm>
        <a:graphic>
          <a:graphicData uri="http://schemas.openxmlformats.org/drawingml/2006/table">
            <a:tbl>
              <a:tblPr/>
              <a:tblGrid>
                <a:gridCol w="1316160"/>
                <a:gridCol w="590400"/>
                <a:gridCol w="432000"/>
                <a:gridCol w="406080"/>
                <a:gridCol w="406440"/>
                <a:gridCol w="406440"/>
                <a:gridCol w="406440"/>
                <a:gridCol w="406440"/>
                <a:gridCol w="406440"/>
                <a:gridCol w="406440"/>
                <a:gridCol w="406440"/>
                <a:gridCol w="406440"/>
                <a:gridCol w="406080"/>
                <a:gridCol w="406440"/>
                <a:gridCol w="408240"/>
                <a:gridCol w="406440"/>
                <a:gridCol w="884160"/>
              </a:tblGrid>
              <a:tr h="309600">
                <a:tc gridSpan="17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erintendência Regional Nordes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3680"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ência Executiv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 Instalaçã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gridSpan="14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úmero de Reuniões por 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ltima Reuniã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2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acaju / S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/08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h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rreiras / B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/07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18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pina Grande / PB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6/04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lh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uaru / P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6/0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m Registr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224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ira de Santana / B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/12/0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ubro/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rtaleza / C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/04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ranhuns / P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6/0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18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abuna / B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/12/0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u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mperatriz / M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/12/0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/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224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ão Pessoa / PB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azeiro / B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03/0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azeiro do Norte / C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/09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18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ceió / AL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/07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ssoró / RN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/11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tal / RN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/09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lh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224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rolina / P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9/11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cife / P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m Registr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224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vador / B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/03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to Antonio de Jesus / B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/10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ão Luís / M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/07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/20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18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bral / C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/05/0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resina / PI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/01/0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224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tória da Conquista / B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/07/0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: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6" name=""/>
          <p:cNvGraphicFramePr/>
          <p:nvPr/>
        </p:nvGraphicFramePr>
        <p:xfrm>
          <a:off x="457200" y="1197000"/>
          <a:ext cx="8435880" cy="5111640"/>
        </p:xfrm>
        <a:graphic>
          <a:graphicData uri="http://schemas.openxmlformats.org/drawingml/2006/table">
            <a:tbl>
              <a:tblPr/>
              <a:tblGrid>
                <a:gridCol w="1305000"/>
                <a:gridCol w="585720"/>
                <a:gridCol w="426960"/>
                <a:gridCol w="403200"/>
                <a:gridCol w="403200"/>
                <a:gridCol w="403200"/>
                <a:gridCol w="403200"/>
                <a:gridCol w="403560"/>
                <a:gridCol w="403200"/>
                <a:gridCol w="403200"/>
                <a:gridCol w="403200"/>
                <a:gridCol w="403200"/>
                <a:gridCol w="403200"/>
                <a:gridCol w="401760"/>
                <a:gridCol w="403200"/>
                <a:gridCol w="403200"/>
                <a:gridCol w="877680"/>
              </a:tblGrid>
              <a:tr h="511200">
                <a:tc gridSpan="17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erintendência Regional Norte / Centro Oes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ência Executiv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alaçã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gridSpan="14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úmero de Reuniões por 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ltima Reuniã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33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9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ápolis / G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/02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lho/20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79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lém / P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/06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/20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811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a Vista / RR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/04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79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po Grande / M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/07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u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79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iabá / MT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/06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79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trito Federal / DF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/08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ub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79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urados / M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/07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u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7972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iânia / G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/08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u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79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capá / A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/02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79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naus / AM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/07/0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79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lmas / T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/08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/20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79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rto Velho / R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/06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ho/20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79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o Branco / AC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/08/0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/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79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: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7" name=""/>
          <p:cNvGraphicFramePr/>
          <p:nvPr/>
        </p:nvGraphicFramePr>
        <p:xfrm>
          <a:off x="179280" y="820800"/>
          <a:ext cx="8785440" cy="5821200"/>
        </p:xfrm>
        <a:graphic>
          <a:graphicData uri="http://schemas.openxmlformats.org/drawingml/2006/table">
            <a:tbl>
              <a:tblPr/>
              <a:tblGrid>
                <a:gridCol w="1278000"/>
                <a:gridCol w="4292640"/>
                <a:gridCol w="3214800"/>
              </a:tblGrid>
              <a:tr h="64620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PERINTENDÊNC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ION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IV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ATIV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deded"/>
                    </a:solidFill>
                  </a:tcPr>
                </a:tc>
              </a:tr>
              <a:tr h="102852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ão Paul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4</a:t>
                      </a:r>
                      <a:r>
                        <a:rPr b="0" lang="pt-BR" sz="3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B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açatuba, Bauru, Campinas, Jundiaí, Marília, Piracicaba, Ribeirão Preto, Santo André, Santos, São José dos Campos, São José do Rio Preto, São Paulo, Sorocaba, Taubaté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6</a:t>
                      </a:r>
                      <a:r>
                        <a:rPr b="0" lang="pt-BR" sz="3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araquara, Guarulhos, Osasco, Presidente Prudente, São Bernardo do Campo, São João da Boa Vista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deded"/>
                    </a:solidFill>
                  </a:tcPr>
                </a:tc>
              </a:tr>
              <a:tr h="108792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lo Horizon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3 </a:t>
                      </a:r>
                      <a:r>
                        <a:rPr b="0" lang="pt-BR" sz="3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lo Horizonte, Campos dos Goytacazes, Contagem, Diamantina, Governador Valadares, Montes Claros, Niterói, Ouro Preto, Petrópolis, Rio de Janeiro, Teófilo Otoni, Varginha, Vitória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8</a:t>
                      </a: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rbacena, Divinópolis, Duque de Caxias, Juiz de Fora, Poços de Caldas, Uberaba, Uberlândia, Volta Redonda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deded"/>
                    </a:solidFill>
                  </a:tcPr>
                </a:tc>
              </a:tr>
              <a:tr h="102852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lorianópoli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8</a:t>
                      </a: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lumenau, Canoas, Cascavel, Caxias do Sul, Chapecó, Criciúma, Curitiba, Florianópolis, Ijuí, Joinville, Maringá, Novo Hamburgo, Pelotas, Ponta Grossa, Porto Alegre, Santa Maria, Uruguaiana, Passo Fundo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ndrina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deded"/>
                    </a:solidFill>
                  </a:tcPr>
                </a:tc>
              </a:tr>
              <a:tr h="102708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cif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1</a:t>
                      </a: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pina Grande, Garanhuns, Itabuna,  João Pessoa, Juazeiro, Juazeiro do Norte, Maceió, Natal, Petrolina, Salvador, Santo Antônio de Jesus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2  </a:t>
                      </a: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acaju, Barreiras, Caruaru, Feira de Santana, Fortaleza, Imperatriz, Mossoró,  Recife, São Luís, Sobral, Teresina, Vitória da Conquista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deded"/>
                    </a:solidFill>
                  </a:tcPr>
                </a:tc>
              </a:tr>
              <a:tr h="63180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asíl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6</a:t>
                      </a: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po Grande, Distrito Federal, Dourados, Goiânia, Macapá, Manaus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7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ápolis, Belém, Boa Vista, Cuiabá, Palmas, Porto Velho, Rio Branco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deded"/>
                    </a:solidFill>
                  </a:tcPr>
                </a:tc>
              </a:tr>
              <a:tr h="37224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6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3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dede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5"/>
          <p:cNvSpPr/>
          <p:nvPr/>
        </p:nvSpPr>
        <p:spPr>
          <a:xfrm>
            <a:off x="611280" y="2060640"/>
            <a:ext cx="763272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pt-BR" sz="3600" spc="-1" strike="noStrike">
                <a:solidFill>
                  <a:srgbClr val="000000"/>
                </a:solidFill>
                <a:latin typeface="Arial"/>
              </a:rPr>
              <a:t>Muito obrigado</a:t>
            </a:r>
            <a:br>
              <a:rPr sz="3600"/>
            </a:br>
            <a:br>
              <a:rPr sz="3600"/>
            </a:br>
            <a:br>
              <a:rPr sz="2400"/>
            </a:b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Contatos:</a:t>
            </a:r>
            <a:br>
              <a:rPr sz="1800"/>
            </a:b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Esplanada dos Ministérios, Bloco F, 7º Andar, Sala 735</a:t>
            </a:r>
            <a:br>
              <a:rPr sz="1800"/>
            </a:b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Brasília, DF - CEP: 70059-900</a:t>
            </a:r>
            <a:br>
              <a:rPr sz="1800"/>
            </a:b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E-mail: cnps@previdencia.gov.br</a:t>
            </a:r>
            <a:br>
              <a:rPr sz="1800"/>
            </a:b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Fone: (61) 2021-5164/5301</a:t>
            </a:r>
            <a:br>
              <a:rPr sz="1800"/>
            </a:b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Fax: (61) 2021-5345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tângulo 1"/>
          <p:cNvSpPr/>
          <p:nvPr/>
        </p:nvSpPr>
        <p:spPr>
          <a:xfrm>
            <a:off x="755640" y="1268280"/>
            <a:ext cx="74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80"/>
                </a:solidFill>
                <a:latin typeface="Arial"/>
              </a:rPr>
              <a:t>COMPOSIÇÃO DO CONSELHO NACIONAL DE PREVIDÊNCI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Retângulo 2"/>
          <p:cNvSpPr/>
          <p:nvPr/>
        </p:nvSpPr>
        <p:spPr>
          <a:xfrm>
            <a:off x="250920" y="2492280"/>
            <a:ext cx="8642160" cy="39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São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 conselheiros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7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 do governo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7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 da sociedade civil, sendo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 representantes dos trabalhadores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 representantes dos aposentados e pensionistas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 representantes dos empregadore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80"/>
                </a:solidFill>
                <a:latin typeface="Arial"/>
                <a:ea typeface="Arial Unicode MS"/>
              </a:rPr>
              <a:t>REPRESENTANTES</a:t>
            </a:r>
            <a:r>
              <a:rPr b="1" lang="pt-BR" sz="2800" spc="-1" strike="noStrike" u="sng">
                <a:solidFill>
                  <a:srgbClr val="000080"/>
                </a:solidFill>
                <a:uFillTx/>
                <a:latin typeface="Arial"/>
                <a:ea typeface="Arial Unicode MS"/>
              </a:rPr>
              <a:t> DO GOVERNO FEDERAL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179280" y="1557000"/>
            <a:ext cx="44640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IT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enrique de Campos Meirelles – Presidente do CN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  <a:ea typeface="Arial"/>
              </a:rPr>
              <a:t>Ministro da Fazenda – M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13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13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enedito Adalberto Brunca</a:t>
            </a:r>
            <a:r>
              <a:rPr b="0" i="1" lang="pt-BR" sz="1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1" i="1" lang="pt-BR" sz="1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- Secretário Executivo do CN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  <a:ea typeface="Arial"/>
              </a:rPr>
              <a:t>Secretário de Políticas de Previdência Social do Ministério da Previdência Social - M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13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eonardo de Melo Gadelha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  <a:ea typeface="Arial"/>
              </a:rPr>
              <a:t>Presidente do Instituto Nacional do Seguro Social - IN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arcelo Abi-Ramia Caetano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  <a:ea typeface="Arial"/>
              </a:rPr>
              <a:t>Secretário de Política de Previdência Complementar do Ministério da Previdência Social - M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Jeferson Luis Bittencourt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  <a:ea typeface="Arial"/>
              </a:rPr>
              <a:t>Ministério da Fazenda - M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marildo Saldanha de Oliveir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  <a:ea typeface="Arial"/>
              </a:rPr>
              <a:t>Ministério do Planejamento, Orçamento e Gestão - M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4572000" y="1557000"/>
            <a:ext cx="44640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UPL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duardo Refinetti Guardi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  <a:ea typeface="Arial"/>
              </a:rPr>
              <a:t>Secretário Executivo do Ministério da Fazenda - M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manuel de Araújo Dantas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  <a:ea typeface="Arial"/>
              </a:rPr>
              <a:t>Diretor do Departamento do Regime Geral de Previdência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  <a:ea typeface="Arial"/>
              </a:rPr>
              <a:t>Social - M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obinson Flávio Dias Nemet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  <a:ea typeface="Arial"/>
              </a:rPr>
              <a:t>Diretor de Benefícios do Instituto Nacional do Seguro Social - INSS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aniel Belmiro Font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  <a:ea typeface="Arial"/>
              </a:rPr>
              <a:t>Secretaria da Receita Federal do Brasil – SRFB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aio Guimarães Figueired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  <a:ea typeface="Arial"/>
              </a:rPr>
              <a:t>Ministério da Fazenda – M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ogério Nagamine Costanz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  <a:ea typeface="Arial"/>
              </a:rPr>
              <a:t>Instituto de Pesquisa Econômica Aplicada - IPE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000080"/>
                </a:solidFill>
                <a:uFillTx/>
                <a:latin typeface="Arial"/>
                <a:ea typeface="Arial Unicode MS"/>
              </a:rPr>
              <a:t>REPRESENTANTES DOS TRABALHADORES EM ATIVIDAD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457200" y="1989000"/>
            <a:ext cx="403848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IT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tonio Cortez Mora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Força Sindical - 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Quintino Marques Sev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Central Única dos Trabalhadores – C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vandro José Morel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Confederação Nacional dos Trabalhadores na Agricultura - CONTA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4647960" y="1989000"/>
            <a:ext cx="424476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UPL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iguel Salaberry Filh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União Geral dos Trabalhadores - UG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João Junior Onuki Alv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Confederação Nacional dos Pescadores e Aquicultores - CNP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ascoal Carnei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Central dos Trabalhadores e Trabalhadoras do Brasil - CT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000080"/>
                </a:solidFill>
                <a:uFillTx/>
                <a:latin typeface="Arial"/>
                <a:ea typeface="Arial Unicode MS"/>
              </a:rPr>
              <a:t>REPRESENTANTES DOS EMPREGADOR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457200" y="2060280"/>
            <a:ext cx="403848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IT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arissa Nascente Guimarães Lestou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Confederação Nacional da Indústria - C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tônio Lisboa Cardo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Confederação Nacional do Comércio - CN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odrigo Hugueney do Amaral Mel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Confederação da Agricultura e Pecuária do Brasil – C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4648320" y="2060280"/>
            <a:ext cx="403848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UPL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alter Tadeu Pinto de Fa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Confederação Nacional das Instituições Financeiras - CN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érgio Aureliano Machado da Sil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Confederação Nacional de Municípios - CN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icardo de Saboya Rocha Miran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Confederação Nacional do Transporte - C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000080"/>
                </a:solidFill>
                <a:uFillTx/>
                <a:latin typeface="Arial"/>
                <a:ea typeface="Arial Unicode MS"/>
              </a:rPr>
              <a:t>REPRESENTANTES DOS APOSENTADOS E PENSIONISTA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457200" y="1989000"/>
            <a:ext cx="403848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IT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Gerson Maia de Carvalh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Sindicato Nacional dos Trabalhadores Aposentados e Pensionistas e Idosos – SINTAPI/C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arcos Barroso de Olivei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Confederação Brasileira de Aposentados e Pensionistas – COB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drea Angerami G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Sindicato Nacional dos Aposentados e Pensionistas da Força Sindical – SINDNA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4648320" y="1989000"/>
            <a:ext cx="438768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UPL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ucio Antonio Bellentan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Central dos Sindicatos Brasileiros - CS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Gildo Arquiminio de Carvalh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Confederação Brasileira de Aposentados e Pensionistas – COB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ngracia Viviane Rodrigues da Sil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Confederação Nacional dos Trabalhadores na Agricultura - CONTA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22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80"/>
                </a:solidFill>
                <a:latin typeface="Arial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m atendimento ao art. 194, parágrafo único, VIII da CF, o Conselho visa à organização da Previdência Social, garantindo o  caráter democrático e descentralizado da administração, mediante gestão quadripartite, com a participação do Governo, dos trabalhadores em atividade, dos empregadores e dos aposent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98100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80"/>
                </a:solidFill>
                <a:latin typeface="Arial"/>
              </a:rPr>
              <a:t>COMPETÊNC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46600" indent="-246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liberar sobre a política de previdência soci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600" indent="-246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liberar sobre a gestão do sistema previdenciári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600" indent="-246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preciar e aprovar planos e programa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600" indent="-246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finir objetivos, metas, prazos e mecanismos de controle para avaliação da execução desses programas, no âmbito da Previdência Soci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600" indent="-246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preciar e aprovar a proposta orçamentária da Previdência Social antes de sua consolidaçã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600" indent="-246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ompanhar a aplicação da legislação pertinente à Previdência So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600" indent="-246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brina Dias de Araujo Mendonca - MPS</dc:creator>
  <dc:description/>
  <dc:language>en-US</dc:language>
  <cp:lastModifiedBy>Silvana do Socorro Machado Rodrigues - MPS</cp:lastModifiedBy>
  <cp:lastPrinted>2016-11-09T19:23:49Z</cp:lastPrinted>
  <dcterms:modified xsi:type="dcterms:W3CDTF">2017-02-14T20:05:36Z</dcterms:modified>
  <cp:revision>288</cp:revision>
  <dc:subject/>
  <dc:title>Slide 1</dc:title>
</cp:coreProperties>
</file>